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3ACF-A53C-4E41-9145-48BF256C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212-4149-4C3E-8661-5D605A7B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 to frere Jac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EBF-3483-4DF3-95F9-1F29429A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14D-CEB7-4784-A462-3D66DC97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FAA-5F5D-47FC-8BAF-C35C142B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5F9-7B8A-4D63-B3FF-725CD83B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562D-A3FD-4F89-BDA6-52DB9D59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43AD-4DF5-4EDF-9A84-1BAA4D5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AD06-0812-48DA-9DF5-F167F8FD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677-EBBE-4496-B070-3759D6C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9FDA-5A59-4C1A-B4CF-7AE9A5B9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570-C8C6-4AFD-8F53-C34D9EFB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8335-344A-4314-A56E-DEA1CC8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591-4BE8-4A29-B3BD-588DC76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ECD-0802-41FA-9609-1348925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2F5-F612-41A2-9F58-29DAF18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0C3-B110-41B4-945D-27CB1D4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B4E-B990-4831-9B89-49685251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020C-5004-4576-AF4D-2D61F956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B569-CB56-4866-BD91-DC2236A8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5877-B3FD-490C-BBE1-E305C52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FB12-A684-4697-9D45-6D793560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3742-06E6-4119-AC64-783F413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06C5-7960-47D4-B324-08CC0815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2B3-B26E-4F9E-82C9-2CE2D75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B3E8-1398-4EC6-ABD3-62CBBEC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2CE9-E0E7-4A2B-AFB1-30CC0DE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BFE6-5E48-451E-AA55-68B20C0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92F5-EBA3-4759-970D-121F7D2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AB0B-DB09-4076-B2B7-41EBA54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CF5C-02FE-4CCC-A876-12323D33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0EE8-44D8-4F09-AF94-BBFB9B7C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C58F1-CB7A-43BD-9ABF-47B29BDA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D650-E4EE-43AC-A8BA-D2BBDFA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D539-B4C9-43B4-B266-843A7B80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7D7-9DD3-472D-9A0A-51D412A1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1046-6A38-4FDF-9CF3-4B54C28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0577-BB3B-4623-9361-6712B32D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CD69-E259-4AB9-B37B-195CA7F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B08A-9F2D-4C05-90ED-3473E19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94B8-AFC1-49D1-A9C5-1523485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13B0-9771-4557-B37C-E77D461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A66D-6B06-48AD-A0AB-DE844088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248D-9983-4E75-BBA6-8820BE1E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0B78-8055-413A-AA59-A89CD4F8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05E1-9409-409C-80C6-E266A5DA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FAA-D76A-43C7-8DAC-0C094DC5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2C01-3817-46CE-BDB8-453B20F1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E8A2-B94A-4C24-8BDD-657831E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A1F5E-B07A-4D4E-8797-EDEEB24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64B9-F941-473B-BFB5-EFAFE015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0797-D8BD-493D-BA8D-64600B6B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CCA5-6E3E-440F-ABA8-77C967B5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8532-33EB-4ED8-84B7-1F72B2E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5B11-52C4-496C-9A65-507A79A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CF4E-83EF-4998-ABFC-7790A293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0B69-C8D8-4071-914C-2189DEB3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22-4C08-48CF-809F-19F6CF2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0179-856C-4F26-B98E-B963B9D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1BF-339F-41E5-8ED3-0F7921E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67D-E5C7-4EED-992C-2D7C125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C1B-CEE9-4CCA-9710-B5BE174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D059-AA4F-4314-AFB0-2EF8709C71B4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39720"/>
            <a:ext cx="6175440" cy="4041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E435-41EA-43DF-9A43-D9FCA5EA1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A5B-15E9-4C87-BB77-3A820AA0AF7E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253F-F40D-4F8B-95DF-6317599D6F84}" type="slidenum">
              <a:rPr b="0" lang="en-US" sz="1400" spc="-1" strike="noStrike">
                <a:solidFill>
                  <a:srgbClr val="c3c586"/>
                </a:solidFill>
                <a:latin typeface="Calisto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20574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2057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40A-8097-4B71-AF87-F299E4F480A6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828800" y="8380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hungr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hungr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ie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ple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icken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n we eat?  Can we Eat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5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938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752120" y="761760"/>
            <a:ext cx="6172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hirst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hirsty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juice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k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, please, please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 </a:t>
            </a:r>
            <a:endParaRPr b="0" lang="en-US" sz="6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52120" y="7621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ired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e you tired?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9547"/>
                </a:solidFill>
                <a:latin typeface="Times New Roman"/>
              </a:rPr>
              <a:t>Yes I am.  Yes I am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 would like some__________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st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leep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, please, please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893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334280" y="82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3052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8:52:02Z</dcterms:created>
  <dc:creator>San Diego City Schools</dc:creator>
  <dc:description/>
  <dc:language>en-US</dc:language>
  <cp:lastModifiedBy>City School</cp:lastModifiedBy>
  <dcterms:modified xsi:type="dcterms:W3CDTF">2011-05-12T20:17:59Z</dcterms:modified>
  <cp:revision>11</cp:revision>
  <dc:subject/>
  <dc:title> </dc:title>
</cp:coreProperties>
</file>